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92E6-0591-48CE-A96C-DC31B866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5CD-523B-4243-BE34-22EC3C4B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F623-DADC-4D7D-BF8B-8B46805F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5AA-D979-4E0E-9B10-11B47CC3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C5EB-431B-4179-9AB8-608674C9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35EE-7E39-4841-B355-EBBB2484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8378-1AB1-42DF-9C03-2FD2E24B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8A78-DA37-4E1E-AF8C-391B6D9F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D626-6DD8-4EAD-A210-93ACED2F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E759-9D5D-4EB3-9459-660A8F07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6894-4047-408D-AABD-AF9260E5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5F1-67E5-4ADE-8EDA-EB25D5C9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E4EF-B84C-43F3-8551-AE6E2C29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13C0-106A-43AA-B5EB-E8C846C4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2BD8-BA4B-42CB-BAAA-322D7193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4EFB-58EA-4ECA-8174-C7423E48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F412-8F8B-4249-8EBE-B2264EBB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4ECA0-866B-45FD-BBEA-2AD076E5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CFCF4-3400-41F2-BA07-25F4D345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99B44-54AD-43AF-AB5C-740D8AF9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35106-D0F7-424C-BF67-85E4C77A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FE19A-6B4A-4716-B2AB-A79AE6D4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27F-7978-46A0-A4B0-17DE2968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B0CFA-65FF-4C2B-A3E5-FF87A816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D9147-56CA-4442-BD29-E2CCC9AE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D27F1-9E8A-409F-99A7-BAB382F9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6780F-9906-4CBB-B6BD-AFDAFF0A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26142-570E-4B84-A305-57A37DC9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8087B-A86B-485A-BA60-3AA8C16C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A0FA4-580C-4F01-8E21-65C66EAD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E93EB-6E95-401E-9762-F5F90565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47E13-0F6A-43DF-80A4-51E9D162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92475-E235-447F-A0A1-4A7C16E5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EB0-C0A6-474D-9450-381A317B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EB201-0580-45CB-929E-FB642D12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2C105-0D91-4ECB-89DC-A0E0A9E6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2BBDA-C4C7-47F8-9D1D-5A730337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00494-84D3-435D-AE7E-F30719D1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8D23B-7196-4EAB-A0F1-A01999C3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164BD-9E7D-4BC2-B16C-CEB6BDA2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01917-AAE5-4D2F-A61F-8B5F70AD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F8CD6-6846-46BE-BED8-A891C83C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9A60D-F996-4AE5-B8E2-89512548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23977-62FD-4432-8C19-0B34A6D7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EA5-3737-42A6-A44F-78EF0A41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30299-A8BD-405E-92D1-4B3571DB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7094C-8F35-441B-92E5-99F3BE99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91B10-BD12-4E82-BD7A-FC7389AB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5137D-752A-4365-96EF-AAC1CABF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C44F7-06C8-4C7D-AFDD-D3D5D174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31F97-5E5A-4545-8C4B-7C27E2F5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A0C8A-E1EC-48AA-AC97-36077288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C339F-ED90-4067-94EB-31F16CF8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B0446-F422-47D6-8A74-77B17E52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A5083-479F-4D95-8E37-5771E61F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2E10-EDEE-4790-BB7D-034752B9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00C2A-3861-4550-99EF-6496E73A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2130A-8190-40D5-A1F5-4B2F895C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C6CBD-48A6-4AAE-B396-8B3A1B5C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27A10-14DB-44B2-A3FB-DBFC19FD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3E9CC-5E03-4E34-9026-F07A680E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06B4B-42B3-47EA-8DAB-F5331C76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AFE82-EA54-469B-BFE5-66D3B039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D9E30-0716-448F-9DBC-352168DD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79C91-D666-4E92-947B-D043E3D2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50B2C-8A38-4A3D-8782-5190B7E7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00B-14A3-49DD-9900-80FEBA58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154A7-AD99-486B-BD4C-29EF9B69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359BC-A4E9-475F-8176-7617A47E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D77F4-2ED3-41C2-AF61-12AF162A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157-457E-4D25-A38D-1EA8F07E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29C-0AA7-4344-AB48-906A2106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B5B4-0263-4308-97F4-F5CCEF07484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6261-EF67-4B6F-B08C-A79C4F4DA8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AB25-112C-4664-841D-9D3F0D1E084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8176-786C-45D2-A779-947FD88D87C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6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6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7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7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8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9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196A-1241-44F9-9CFE-8D8F69D733B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4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5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6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6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8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4555-16FC-4ABC-9627-A537ED50562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 Unicode MS"/>
              </a:rPr>
              <a:t>Тема проект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25240" y="3713040"/>
            <a:ext cx="63961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99"/>
                </a:solidFill>
                <a:uFillTx/>
                <a:latin typeface="Arial Unicode MS"/>
              </a:rPr>
              <a:t>Авторы: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0" y="285840"/>
            <a:ext cx="80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2000160" y="50720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Arial Unicode MS"/>
              </a:rPr>
              <a:t>Руководитель:</a:t>
            </a:r>
            <a:r>
              <a:rPr b="0" lang="en-US" sz="1800" spc="-1" strike="noStrike">
                <a:solidFill>
                  <a:srgbClr val="0066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облемный вопрос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Цел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Ход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Вывод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ьзуемые материал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студент</cp:lastModifiedBy>
  <dcterms:modified xsi:type="dcterms:W3CDTF">2010-05-24T11:08:56Z</dcterms:modified>
  <cp:revision>62</cp:revision>
  <dc:subject/>
  <dc:title>Слайд 1</dc:title>
</cp:coreProperties>
</file>